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25.png" ContentType="image/png"/>
  <Override PartName="/ppt/media/image1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23.jpeg" ContentType="image/jpeg"/>
  <Override PartName="/ppt/media/image24.png" ContentType="image/png"/>
  <Override PartName="/ppt/media/image2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BA31-74E5-4283-85CF-C5868BC9A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3BA7-A08C-4ABE-9B98-84C12F332EE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8B25-62EA-4E8D-B478-DD9F7466B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A518-1ABD-4B37-B3AF-DA638700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B399-3C69-4820-9EDB-6298B924E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FE84-B9A2-43A5-9655-0EFAD0DDD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81D3-1CA6-4DF1-AAA4-0F452CE04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1F86-D24E-4036-AFC3-B28EE1D9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2760-B459-40FA-8B5D-1DDB5D49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A3A7-F0D1-407F-ABD8-4C7AB84E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F7A5-5CD8-4178-AF88-296FF85D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ECA7E-88D7-424B-B247-F9F62AF7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CAF0-B579-41D3-A90C-E0509BC4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29BD-00C2-47DC-865B-07845214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88DE5-E779-424F-A387-A3DD7C18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5A567-5CBF-463D-8DFA-74442BB4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A9C8-A7B4-4D2D-AC25-FE49F290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3E325-A5BD-4A48-9078-24B5F8A6D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FABB-B176-45A1-BCE9-30F4D9517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F39DB-052F-4075-A6B8-95BA777A5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B89D1-DFA1-4E5F-B0A0-FDF7DCA2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C05E9-50EB-442C-9BAE-3C708202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BA440-21A5-4E96-B788-2142A76E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D0722-B65A-42D7-A331-DECB8DA1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B8BE-84F3-4AB8-87AC-741E088E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83EF8-2CB4-4D57-B8F8-64F226AD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166CD-5EF0-4607-817E-1F02D9AA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9E4FE-E1A4-412F-847A-9E09640A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32446-26D6-40EE-B33A-97F6687C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380B8-1F39-4AA8-A2BF-84A967D8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C6FFE-0379-4830-B65A-238ED7357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50145-7649-4051-83F8-C192E80C6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EEBD8-5C92-4C41-9DB0-7B355FB81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472CE-D0C3-4C25-9F16-7F7F66C5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0CA47-F830-4B32-8C5C-D06793AD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C49E-AE11-4D24-9F02-B0D9FFBD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09C61-C7E3-47BB-BEFF-295AE252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F8CAE-964C-4D2C-A470-68339024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F4483-4936-4A8A-A250-50BC45D1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B3F37-A76B-4651-9E5F-88EB188E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3A885-382A-49C1-AEA1-F1233263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450E3-048F-4656-9443-17BAD748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B0571-1C2C-4DC6-8626-A6136199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21018-C99C-4146-82C8-192B447C0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E9B79-C321-4005-B854-D8D56C85B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4719-F434-43E2-85F3-C55835FC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F75A-F0D8-4B6C-B49C-29D5A923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4269-F74D-422C-81AF-2440C9F5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F1D9-88B9-4961-B547-72369093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08BE-61E7-4649-9F78-09E9C726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1FA2-CC55-4DA1-A5E2-71FE0F20328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DF67-5CF1-4358-BD23-E13DBEC985A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4FB0-CD43-4E74-A9EB-B52B13C47EB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DD7B9-ACA2-4E4A-B76A-32116EFC402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7861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bIns="0" anchor="b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Times New Roman"/>
              </a:rPr>
              <a:t>АХОНДРОПЛА</a:t>
            </a:r>
            <a:r>
              <a:rPr b="1" lang="sr-CS" sz="5000" spc="-1" strike="noStrike">
                <a:solidFill>
                  <a:srgbClr val="000000"/>
                </a:solidFill>
                <a:latin typeface="Arial"/>
                <a:ea typeface="Times New Roman"/>
              </a:rPr>
              <a:t>З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Times New Roman"/>
              </a:rPr>
              <a:t>И</a:t>
            </a:r>
            <a:r>
              <a:rPr b="1" lang="sr-CS" sz="5000" spc="-1" strike="noStrike">
                <a:solidFill>
                  <a:srgbClr val="000000"/>
                </a:solidFill>
                <a:latin typeface="Arial"/>
                <a:ea typeface="Times New Roman"/>
              </a:rPr>
              <a:t>Ј</a:t>
            </a: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220" name="Picture 6" descr="achondroplasia-1"/>
          <p:cNvPicPr/>
          <p:nvPr/>
        </p:nvPicPr>
        <p:blipFill>
          <a:blip r:embed="rId1"/>
          <a:stretch/>
        </p:blipFill>
        <p:spPr>
          <a:xfrm>
            <a:off x="609480" y="2514600"/>
            <a:ext cx="2552760" cy="31240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Achondroplasia"/>
          <p:cNvPicPr/>
          <p:nvPr/>
        </p:nvPicPr>
        <p:blipFill>
          <a:blip r:embed="rId2"/>
          <a:srcRect l="7992" t="0" r="5354" b="0"/>
          <a:stretch/>
        </p:blipFill>
        <p:spPr>
          <a:xfrm>
            <a:off x="3352680" y="2209680"/>
            <a:ext cx="4953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Аутозомно рецесивно насле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ђ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ивање</a:t>
            </a:r>
            <a:endParaRPr b="0" lang="en-US" sz="36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ести које се насл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ђ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ују на овај начин испољавају се  само када је особа </a:t>
            </a:r>
            <a:r>
              <a:rPr b="0" lang="sr-Latn-CS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хомозиготна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(аа) </a:t>
            </a:r>
            <a:r>
              <a:rPr b="0" lang="sr-Latn-CS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за мутирани ге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Пр. поремећаји метаболизма (фенилкетонурија, алкаптонурија, албинизам, хипотиреоидни кретенизам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osteogenezis imperfekt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- цистична фиброза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  <a:ea typeface="Times New Roman"/>
              </a:rPr>
              <a:t>Аутозомно рецесивно</a:t>
            </a:r>
            <a:endParaRPr b="0" lang="en-US" sz="45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225" name="Picture 3" descr="Thalassemia_1"/>
          <p:cNvPicPr/>
          <p:nvPr/>
        </p:nvPicPr>
        <p:blipFill>
          <a:blip r:embed="rId1"/>
          <a:stretch/>
        </p:blipFill>
        <p:spPr>
          <a:xfrm>
            <a:off x="1523880" y="1676520"/>
            <a:ext cx="5730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Hydatidform Mole1"/>
          <p:cNvPicPr/>
          <p:nvPr/>
        </p:nvPicPr>
        <p:blipFill>
          <a:blip r:embed="rId1"/>
          <a:stretch/>
        </p:blipFill>
        <p:spPr>
          <a:xfrm>
            <a:off x="4390920" y="3048120"/>
            <a:ext cx="4753080" cy="35654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osteo2"/>
          <p:cNvPicPr/>
          <p:nvPr/>
        </p:nvPicPr>
        <p:blipFill>
          <a:blip r:embed="rId2"/>
          <a:stretch/>
        </p:blipFill>
        <p:spPr>
          <a:xfrm>
            <a:off x="0" y="533520"/>
            <a:ext cx="4753080" cy="356544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5"/>
          <p:cNvSpPr/>
          <p:nvPr/>
        </p:nvSpPr>
        <p:spPr>
          <a:xfrm>
            <a:off x="5334120" y="1219320"/>
            <a:ext cx="304776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teogenesis imperfec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albino crnac"/>
          <p:cNvPicPr/>
          <p:nvPr/>
        </p:nvPicPr>
        <p:blipFill>
          <a:blip r:embed="rId1"/>
          <a:stretch/>
        </p:blipFill>
        <p:spPr>
          <a:xfrm>
            <a:off x="914400" y="1905120"/>
            <a:ext cx="4419720" cy="4362480"/>
          </a:xfrm>
          <a:prstGeom prst="rect">
            <a:avLst/>
          </a:prstGeom>
          <a:ln w="76320">
            <a:solidFill>
              <a:srgbClr val="ff0066"/>
            </a:solidFill>
            <a:miter/>
          </a:ln>
        </p:spPr>
      </p:pic>
      <p:sp>
        <p:nvSpPr>
          <p:cNvPr id="230" name="Text Box 3"/>
          <p:cNvSpPr/>
          <p:nvPr/>
        </p:nvSpPr>
        <p:spPr>
          <a:xfrm>
            <a:off x="2133720" y="533520"/>
            <a:ext cx="4572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АЛБИНИЗАМ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1" name="Picture 16" descr="Go to fullsize image"/>
          <p:cNvPicPr/>
          <p:nvPr/>
        </p:nvPicPr>
        <p:blipFill>
          <a:blip r:embed="rId2"/>
          <a:stretch/>
        </p:blipFill>
        <p:spPr>
          <a:xfrm>
            <a:off x="6248520" y="3124080"/>
            <a:ext cx="2074680" cy="13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Arial"/>
                <a:ea typeface="Arial"/>
              </a:rPr>
              <a:t>Цистична фиброза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233" name="Picture 5" descr="nr551844"/>
          <p:cNvPicPr/>
          <p:nvPr/>
        </p:nvPicPr>
        <p:blipFill>
          <a:blip r:embed="rId1"/>
          <a:stretch/>
        </p:blipFill>
        <p:spPr>
          <a:xfrm>
            <a:off x="1219320" y="2286000"/>
            <a:ext cx="69339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ПОЛНО-ВЕЗАНО НАСЛЕЂИВАЊЕ</a:t>
            </a:r>
            <a:endParaRPr b="0" lang="en-US" sz="36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294920" y="2468160"/>
            <a:ext cx="6629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Везано за X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хромоз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доминан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рецесив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Доминантно везано за X</a:t>
            </a: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Жене су два пута чешће афициране од мушкарац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колико је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болестан отац - преноси мутацију само </a:t>
            </a:r>
            <a:r>
              <a:rPr b="0" lang="sr-Latn-CS" sz="2600" spc="-1" strike="noStrike">
                <a:solidFill>
                  <a:srgbClr val="ff0000"/>
                </a:solidFill>
                <a:latin typeface="Arial"/>
              </a:rPr>
              <a:t>ћерка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Хетерозиготне жене имају фенотип који може да варира од нормалног до афицираног, зависно од инактивације 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Arial"/>
                <a:ea typeface="Times New Roman"/>
              </a:rPr>
              <a:t>РАХИТИС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239" name="Picture 5" descr="xbeine"/>
          <p:cNvPicPr/>
          <p:nvPr/>
        </p:nvPicPr>
        <p:blipFill>
          <a:blip r:embed="rId1"/>
          <a:stretch/>
        </p:blipFill>
        <p:spPr>
          <a:xfrm>
            <a:off x="3048120" y="2286000"/>
            <a:ext cx="3254400" cy="41292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rachitis"/>
          <p:cNvPicPr/>
          <p:nvPr/>
        </p:nvPicPr>
        <p:blipFill>
          <a:blip r:embed="rId2"/>
          <a:stretch/>
        </p:blipFill>
        <p:spPr>
          <a:xfrm>
            <a:off x="380880" y="2286000"/>
            <a:ext cx="2568600" cy="38527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obeine"/>
          <p:cNvPicPr/>
          <p:nvPr/>
        </p:nvPicPr>
        <p:blipFill>
          <a:blip r:embed="rId3"/>
          <a:stretch/>
        </p:blipFill>
        <p:spPr>
          <a:xfrm>
            <a:off x="6373800" y="2286000"/>
            <a:ext cx="277020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000" spc="-1" strike="noStrike">
                <a:solidFill>
                  <a:srgbClr val="000000"/>
                </a:solidFill>
                <a:latin typeface="Arial"/>
                <a:ea typeface="Arial"/>
              </a:rPr>
              <a:t>Рецесивно  везано за X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Болест се преноси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са мајки на синов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XX-здрава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-преносилац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-болесна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же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-болестан мушкара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Р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x X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F1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, XX, X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Вероватноћа за добијање рецесивног хомозигота се повећава склапањем бракова у сродств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Arial"/>
                <a:ea typeface="Arial"/>
              </a:rPr>
              <a:t>Наслеђивање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еношење гена из једне г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ерације у следећу и постизање њихове експресије у тој новој генерац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регор Мендел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1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866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) поставио 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два 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основна правила насле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ђ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ивања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равило растављ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равило слободног комбинов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Монохибридно, дихибридно, полихибрид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Болест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које се наслеђују рецесивно везано за Х хромозом</a:t>
            </a:r>
            <a:endParaRPr b="0" lang="en-US" sz="36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828800" y="2133360"/>
            <a:ext cx="58672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далтонизам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-хемофилија типа А и Б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- мишићна дистроф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-инконтиненција пигментозу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-дефицијенциј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ензима G6PD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5" descr="hdc_0001_0002_0_img0181"/>
          <p:cNvPicPr/>
          <p:nvPr/>
        </p:nvPicPr>
        <p:blipFill>
          <a:blip r:embed="rId1"/>
          <a:stretch/>
        </p:blipFill>
        <p:spPr>
          <a:xfrm>
            <a:off x="4381560" y="2133720"/>
            <a:ext cx="4762440" cy="431460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pic>
        <p:nvPicPr>
          <p:cNvPr id="247" name="Picture 6" descr="mutacije DMD listovi"/>
          <p:cNvPicPr/>
          <p:nvPr/>
        </p:nvPicPr>
        <p:blipFill>
          <a:blip r:embed="rId2"/>
          <a:stretch/>
        </p:blipFill>
        <p:spPr>
          <a:xfrm>
            <a:off x="609480" y="1411200"/>
            <a:ext cx="3300480" cy="5446800"/>
          </a:xfrm>
          <a:prstGeom prst="rect">
            <a:avLst/>
          </a:prstGeom>
          <a:ln w="76320">
            <a:solidFill>
              <a:srgbClr val="0f6fc6"/>
            </a:solidFill>
            <a:miter/>
          </a:ln>
        </p:spPr>
      </p:pic>
      <p:sp>
        <p:nvSpPr>
          <p:cNvPr id="248" name="Rectangle 5"/>
          <p:cNvSpPr/>
          <p:nvPr/>
        </p:nvSpPr>
        <p:spPr>
          <a:xfrm>
            <a:off x="1143000" y="228600"/>
            <a:ext cx="723888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Мишићна дистрофиј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Наслеђивање везано за </a:t>
            </a:r>
            <a:br>
              <a:rPr sz="4000"/>
            </a:br>
            <a:r>
              <a:rPr b="1" lang="sr-Latn-C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Y 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хромозом</a:t>
            </a: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250" name="Picture 7" descr="MGA2-05-15_Y_inheritance"/>
          <p:cNvPicPr/>
          <p:nvPr/>
        </p:nvPicPr>
        <p:blipFill>
          <a:blip r:embed="rId1"/>
          <a:stretch/>
        </p:blipFill>
        <p:spPr>
          <a:xfrm>
            <a:off x="1143000" y="1752480"/>
            <a:ext cx="693432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Наслеђивање везано з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хромозом-холандрично наслеђивање</a:t>
            </a: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219320" y="2468160"/>
            <a:ext cx="73152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Пловне кожице између прстију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на стопали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Косматост ушне шкољк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5" descr="Hairy Ears"/>
          <p:cNvPicPr/>
          <p:nvPr/>
        </p:nvPicPr>
        <p:blipFill>
          <a:blip r:embed="rId1"/>
          <a:stretch/>
        </p:blipFill>
        <p:spPr>
          <a:xfrm>
            <a:off x="609480" y="304920"/>
            <a:ext cx="8001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Arial"/>
              </a:rPr>
              <a:t>Полигено наслеђивање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Полигенија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- појава да је једна особина детерминисана већим бројем ге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Полигено су детерминисана квантитативна својст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На испољавање ових особина утиче и фактор средине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мултифакторијално насле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ђ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ивањ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Мултифакторијалне болести:</a:t>
            </a: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676520" y="1980720"/>
            <a:ext cx="57909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-кардиоваскуларне боле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-дијабете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-канцер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-полигена хиперхолестеролем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-шизофрен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-страбиза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-псоријаза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Title 1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7861320" cy="1841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ffffff"/>
                </a:solidFill>
                <a:latin typeface="Arial"/>
              </a:rPr>
              <a:t>Типови наслеђивањ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Класична генетика</a:t>
            </a:r>
            <a:br>
              <a:rPr sz="3600"/>
            </a:b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Gregor Mendel (1822-1884) </a:t>
            </a:r>
            <a:endParaRPr b="0" lang="en-US" sz="36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261" name="Picture 4" descr="zgs4f1"/>
          <p:cNvPicPr/>
          <p:nvPr/>
        </p:nvPicPr>
        <p:blipFill>
          <a:blip r:embed="rId1"/>
          <a:stretch/>
        </p:blipFill>
        <p:spPr>
          <a:xfrm>
            <a:off x="3124080" y="2057400"/>
            <a:ext cx="38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3"/>
          <p:cNvSpPr/>
          <p:nvPr/>
        </p:nvSpPr>
        <p:spPr>
          <a:xfrm>
            <a:off x="3955320" y="4224240"/>
            <a:ext cx="1203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Times New Roman"/>
              </a:rPr>
              <a:t>Фенотип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AutoShape 6"/>
          <p:cNvSpPr/>
          <p:nvPr/>
        </p:nvSpPr>
        <p:spPr>
          <a:xfrm>
            <a:off x="3276720" y="1447920"/>
            <a:ext cx="2438280" cy="2743200"/>
          </a:xfrm>
          <a:prstGeom prst="downArrowCallout">
            <a:avLst>
              <a:gd name="adj1" fmla="val 21872"/>
              <a:gd name="adj2" fmla="val 25000"/>
              <a:gd name="adj3" fmla="val 17709"/>
              <a:gd name="adj4" fmla="val 6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sr-CS" sz="1800" spc="-1" strike="noStrike">
                <a:solidFill>
                  <a:srgbClr val="000000"/>
                </a:solidFill>
                <a:latin typeface="Tahoma"/>
              </a:rPr>
              <a:t>Генотип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AutoShape 7"/>
          <p:cNvSpPr/>
          <p:nvPr/>
        </p:nvSpPr>
        <p:spPr>
          <a:xfrm>
            <a:off x="228600" y="1828800"/>
            <a:ext cx="2881440" cy="1219320"/>
          </a:xfrm>
          <a:prstGeom prst="rightArrow">
            <a:avLst>
              <a:gd name="adj1" fmla="val 50000"/>
              <a:gd name="adj2" fmla="val 50239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Активност гена и генски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родукат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AutoShape 8"/>
          <p:cNvSpPr/>
          <p:nvPr/>
        </p:nvSpPr>
        <p:spPr>
          <a:xfrm flipH="1">
            <a:off x="5790600" y="1752480"/>
            <a:ext cx="3352680" cy="1219320"/>
          </a:xfrm>
          <a:prstGeom prst="rightArrow">
            <a:avLst>
              <a:gd name="adj1" fmla="val 50000"/>
              <a:gd name="adj2" fmla="val 50244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Фактори средин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515160" y="4624560"/>
            <a:ext cx="7142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Times New Roman"/>
              </a:rPr>
              <a:t>Генотип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куп гена у једном организму 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</a:rPr>
              <a:t>(у ширем смислу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= одређена комбинација наследних фактора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на пару хомологих хромозома који одређују неко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војство 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</a:rPr>
              <a:t>(у ужем смислу)</a:t>
            </a:r>
            <a:r>
              <a:rPr b="1" lang="sr-CS" sz="2000" spc="-1" strike="noStrike">
                <a:solidFill>
                  <a:srgbClr val="85dfd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Times New Roman"/>
              </a:rPr>
              <a:t>Фенотип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куп свих особина једног организм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Наслеђивање може да буд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МОНОГЕНСКО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(наслеђивање особина које су детерминисане </a:t>
            </a:r>
            <a:r>
              <a:rPr b="1" lang="ru-RU" sz="2600" spc="-1" strike="noStrike">
                <a:solidFill>
                  <a:srgbClr val="00b0f0"/>
                </a:solidFill>
                <a:latin typeface="Arial"/>
                <a:ea typeface="Arial"/>
              </a:rPr>
              <a:t>једним геном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квалитативне особине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b0f0"/>
                </a:solidFill>
                <a:latin typeface="Arial"/>
                <a:ea typeface="Arial"/>
              </a:rPr>
              <a:t>2.  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ПОЛИГЕНСКО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(наслеђивање особина које су детерминисане </a:t>
            </a:r>
            <a:r>
              <a:rPr b="1" lang="ru-RU" sz="2600" spc="-1" strike="noStrike">
                <a:solidFill>
                  <a:srgbClr val="00b0f0"/>
                </a:solidFill>
                <a:latin typeface="Arial"/>
                <a:ea typeface="Arial"/>
              </a:rPr>
              <a:t>већим бројем гена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квантитативне особине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1173240"/>
            <a:ext cx="8229600" cy="1798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900" spc="-1" strike="noStrike">
                <a:solidFill>
                  <a:srgbClr val="ff0000"/>
                </a:solidFill>
                <a:latin typeface="Arial"/>
              </a:rPr>
              <a:t>Генски алели - </a:t>
            </a:r>
            <a:r>
              <a:rPr b="0" lang="sr-CS" sz="2900" spc="-1" strike="noStrike">
                <a:solidFill>
                  <a:srgbClr val="000000"/>
                </a:solidFill>
                <a:latin typeface="Arial"/>
              </a:rPr>
              <a:t>различити облици постојања једног истог гена </a:t>
            </a:r>
            <a:br>
              <a:rPr sz="2900"/>
            </a:br>
            <a:r>
              <a:rPr b="0" lang="sr-CS" sz="2900" spc="-1" strike="noStrike">
                <a:solidFill>
                  <a:srgbClr val="000000"/>
                </a:solidFill>
                <a:latin typeface="Arial"/>
              </a:rPr>
              <a:t>- Хомозигот (АА; аа) </a:t>
            </a:r>
            <a:br>
              <a:rPr sz="2900"/>
            </a:br>
            <a:r>
              <a:rPr b="0" lang="sr-CS" sz="2900" spc="-1" strike="noStrike">
                <a:solidFill>
                  <a:srgbClr val="000000"/>
                </a:solidFill>
                <a:latin typeface="Arial"/>
              </a:rPr>
              <a:t>- Хетерозигот (Аа)</a:t>
            </a:r>
            <a:br>
              <a:rPr sz="2900"/>
            </a:br>
            <a:endParaRPr b="0" lang="en-US" sz="29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268" name="Picture 6" descr=""/>
          <p:cNvPicPr/>
          <p:nvPr/>
        </p:nvPicPr>
        <p:blipFill>
          <a:blip r:embed="rId1"/>
          <a:srcRect l="0" t="0" r="0" b="4492"/>
          <a:stretch/>
        </p:blipFill>
        <p:spPr>
          <a:xfrm>
            <a:off x="1447920" y="2666880"/>
            <a:ext cx="5867280" cy="39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228600" y="380880"/>
            <a:ext cx="3962520" cy="79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МОНОХИБРИДНО НАСЛЕЂИВАЊ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: округао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 набора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</a:rPr>
              <a:t>: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амо округао обли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</a:rPr>
              <a:t>: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кругао; наборан обли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3       :       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0" name="Picture 3" descr=""/>
          <p:cNvPicPr/>
          <p:nvPr/>
        </p:nvPicPr>
        <p:blipFill>
          <a:blip r:embed="rId1"/>
          <a:srcRect l="0" t="0" r="0" b="3124"/>
          <a:stretch/>
        </p:blipFill>
        <p:spPr>
          <a:xfrm>
            <a:off x="4470480" y="114480"/>
            <a:ext cx="45212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532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Менделова правила наслеђивањ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200"/>
            </a:br>
            <a:br>
              <a:rPr sz="3200"/>
            </a:b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1. Правило растављања наслед. фактора</a:t>
            </a:r>
            <a:br>
              <a:rPr sz="2800"/>
            </a:b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2. Правило слободног комбиновања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272" name="Picture 3" descr="09_UN178ZygoteFormation_L.jpg"/>
          <p:cNvPicPr/>
          <p:nvPr/>
        </p:nvPicPr>
        <p:blipFill>
          <a:blip r:embed="rId1"/>
          <a:stretch/>
        </p:blipFill>
        <p:spPr>
          <a:xfrm>
            <a:off x="380880" y="3048120"/>
            <a:ext cx="853452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304920" y="228600"/>
            <a:ext cx="7238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ДИХИБРИДНО </a:t>
            </a:r>
            <a:br>
              <a:rPr sz="2400"/>
            </a:b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НАСЛЕЂИВАЊЕ:</a:t>
            </a:r>
            <a:br>
              <a:rPr sz="2400"/>
            </a:b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(родитељска и</a:t>
            </a:r>
            <a:br>
              <a:rPr sz="2400"/>
            </a:b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ва генерација </a:t>
            </a:r>
            <a:br>
              <a:rPr sz="2400"/>
            </a:b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томака) </a:t>
            </a:r>
            <a:br>
              <a:rPr sz="2400"/>
            </a:br>
            <a:br>
              <a:rPr sz="2400"/>
            </a:b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две особине:</a:t>
            </a:r>
            <a:br>
              <a:rPr sz="2400"/>
            </a:br>
            <a:br>
              <a:rPr sz="2400"/>
            </a:b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1. Облик зрна грашка:</a:t>
            </a:r>
            <a:br>
              <a:rPr sz="2400"/>
            </a:b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- округао (дом. св.)</a:t>
            </a:r>
            <a:br>
              <a:rPr sz="2400"/>
            </a:b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- наборан (рец. св.)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2. Боја зрна грашка:</a:t>
            </a:r>
            <a:br>
              <a:rPr sz="2400"/>
            </a:b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- жута (дом. св.)</a:t>
            </a:r>
            <a:br>
              <a:rPr sz="2400"/>
            </a:b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- зелена (рец. св.)</a:t>
            </a:r>
            <a:br>
              <a:rPr sz="2400"/>
            </a:b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4" name="Picture 4" descr="Figure 10-7"/>
          <p:cNvPicPr/>
          <p:nvPr/>
        </p:nvPicPr>
        <p:blipFill>
          <a:blip r:embed="rId1"/>
          <a:stretch/>
        </p:blipFill>
        <p:spPr>
          <a:xfrm>
            <a:off x="3733920" y="938160"/>
            <a:ext cx="518616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4" descr="14_10IncompleteDominance_L.jpg"/>
          <p:cNvPicPr/>
          <p:nvPr/>
        </p:nvPicPr>
        <p:blipFill>
          <a:blip r:embed="rId1"/>
          <a:stretch/>
        </p:blipFill>
        <p:spPr>
          <a:xfrm>
            <a:off x="2438280" y="990720"/>
            <a:ext cx="4872240" cy="571176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0000"/>
                </a:solidFill>
                <a:latin typeface="Arial"/>
              </a:rPr>
              <a:t>Интермедијерно наслеђивањ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6735600"/>
            <a:ext cx="8229600" cy="1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ounded Rectangle 4"/>
          <p:cNvSpPr/>
          <p:nvPr/>
        </p:nvSpPr>
        <p:spPr>
          <a:xfrm>
            <a:off x="2209680" y="5334120"/>
            <a:ext cx="1752840" cy="6094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Ф2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 1:2: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Arial"/>
              </a:rPr>
              <a:t>Израда проблемских задатака</a:t>
            </a: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581280" y="2514600"/>
            <a:ext cx="1905120" cy="27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4.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4.1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4.1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4.1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МОНОГЕНСКО НАСЛЕЂИВАЊЕ: </a:t>
            </a:r>
            <a:endParaRPr b="0" lang="en-US" sz="36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560" y="1934640"/>
            <a:ext cx="83818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1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аутозомно доминантно (ад) наслеђивањ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2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аутозомно рецесивно (ар)  наслеђивањ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3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полно везано наслеђивањ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- х везано доминантно наслеђивањ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х везано рецесивно наслеђивањ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наслеђивање везано за y хромозом 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холандрично наслеђивање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АУТОЗОМНО ДОМИНАНТНО НАСЛЕЂИВАЊЕ</a:t>
            </a:r>
            <a:endParaRPr b="0" lang="en-US" sz="28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Болесни су доминантни хомо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иготи (АА)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хетеро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иг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от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(Аа)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, тј довољна је мутација гена  само на једном хромозом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Бројна нормална и патолошка својства се насл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ђ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ују аутозомно доминант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   Аа x а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1  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  <a:ea typeface="Arial"/>
              </a:rPr>
              <a:t>Аа, Аа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, аа, аа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  <a:ea typeface="Arial"/>
              </a:rPr>
              <a:t>50% болесних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потома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04920" y="21337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    АА x Аа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  Аа x А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АА, АА, Аа, Аа   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АА, Аа, Аа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, а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сви су болесни                   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75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</a:rPr>
              <a:t> %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22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АДУЛТНИ ПОЛИЦИСТИЧНИ БУБРЕЗ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ФАМИЛИЈАРНА ХИПЕРХОЛЕСТЕРОЛЕМ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НТИНГТОНОВА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БОЛЕ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НЕУРОФИБРОМАТОЗА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АХОНДРОПЛА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ЛИДАКТИЛИЈА, СИНДАКТИЛИЈА, АРАХНОДАКТИЛИЈ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990720" y="762120"/>
            <a:ext cx="7543800" cy="1218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АУТОЗОМНО ДОМИНАНТНЕ МОНОГЕНСКЕ БОЛЕ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АД болести показују различиту 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пенетрабилност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екпресивност</a:t>
            </a:r>
            <a:endParaRPr b="0" lang="en-US" sz="36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Пенетрабилност</a:t>
            </a:r>
            <a:r>
              <a:rPr b="1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sr-Latn-CS" sz="2600" spc="-1" strike="noStrike">
                <a:solidFill>
                  <a:srgbClr val="ff0000"/>
                </a:solidFill>
                <a:latin typeface="Arial"/>
                <a:ea typeface="Arial"/>
              </a:rPr>
              <a:t>пробојност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–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понекад се не испољавају иако знамо да особа носи мутирани ге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Експресивност</a:t>
            </a:r>
            <a:r>
              <a:rPr b="1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sr-Latn-CS" sz="2600" spc="-1" strike="noStrike">
                <a:solidFill>
                  <a:srgbClr val="ff0000"/>
                </a:solidFill>
                <a:latin typeface="Arial"/>
                <a:ea typeface="Arial"/>
              </a:rPr>
              <a:t>изражајност</a:t>
            </a:r>
            <a:r>
              <a:rPr b="1" i="1" lang="sr-RS" sz="2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  <a:ea typeface="Arial"/>
              </a:rPr>
              <a:t>-</a:t>
            </a:r>
            <a:r>
              <a:rPr b="1" lang="sr-RS" sz="2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у различитом степену су изражене (пр. полидактилија, </a:t>
            </a:r>
            <a:r>
              <a:rPr b="0" i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osteogenesis imperfеkta</a:t>
            </a:r>
            <a:r>
              <a:rPr b="0" i="1" lang="sr-RS" sz="2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0040" y="65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bIns="0" anchor="b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Брахидактилиј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идактилиј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клинодактилиј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216" name="Picture 4" descr="polidaktilija"/>
          <p:cNvPicPr/>
          <p:nvPr/>
        </p:nvPicPr>
        <p:blipFill>
          <a:blip r:embed="rId1"/>
          <a:stretch/>
        </p:blipFill>
        <p:spPr>
          <a:xfrm>
            <a:off x="0" y="2133720"/>
            <a:ext cx="7967520" cy="180792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5"/>
          <p:cNvSpPr/>
          <p:nvPr/>
        </p:nvSpPr>
        <p:spPr>
          <a:xfrm>
            <a:off x="4487760" y="3276720"/>
            <a:ext cx="2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cc"/>
                </a:solidFill>
                <a:latin typeface="Garamond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Picture 7" descr="clinodactyly1"/>
          <p:cNvPicPr/>
          <p:nvPr/>
        </p:nvPicPr>
        <p:blipFill>
          <a:blip r:embed="rId2"/>
          <a:stretch/>
        </p:blipFill>
        <p:spPr>
          <a:xfrm>
            <a:off x="2057400" y="3962520"/>
            <a:ext cx="4487760" cy="24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09:06:44Z</dcterms:created>
  <dc:creator>Olivera</dc:creator>
  <dc:description/>
  <dc:language>en-US</dc:language>
  <cp:lastModifiedBy>Microsoft Office User</cp:lastModifiedBy>
  <dcterms:modified xsi:type="dcterms:W3CDTF">2022-01-25T17:59:34Z</dcterms:modified>
  <cp:revision>106</cp:revision>
  <dc:subject/>
  <dc:title>MONOGENSKE I POLIGENSKE BOLESTI</dc:title>
</cp:coreProperties>
</file>